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A346-851A-44A4-AC86-B214EB88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24D5-F525-4BA8-9EDD-72660C71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D31D-648B-4B1F-A17E-08DE5E50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416A-6495-4108-84FE-C0F131F4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0AD3-0AB3-4E48-A73A-080A45A2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2C65-3717-44CD-BFD0-293464F4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987B-40AD-4773-A7DD-970DB7B4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8C13-11D7-4531-949E-4E72FA59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32F5-85BE-430D-A545-4D4F5E1E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CFE4-BC91-48EF-B1B8-7037A7D3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B652-09E0-4CD9-AFB0-ACF9E4CC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B1F5-E0BB-4022-AFF4-CEDC20D6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CAAC-56FF-4945-B314-BDEB1625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BB0-2727-476D-8C4B-2C34B20B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1511-5C7D-4ED5-A141-8D898DE6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33BA-87D2-4749-979B-9873C741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6BB4-15F9-44BC-A4A8-8F0DD133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F842-3457-4D1E-B869-80D734EA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1338-4D9C-47F2-9406-192D3E11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E846-7658-4155-BC13-3BD332F0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72A9-0B91-41A1-9A0B-1ED704C6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6F7F-9FE3-4998-9EAF-DAF0691E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C85B-5F23-4F5E-B024-BCAF9EF8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1889-9BED-43ED-B177-BFDC8A17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D8E8-34FB-4018-A91F-5010B6F3CF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0A66-5B96-4E7A-9ED4-5849968743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Dezastre</a:t>
            </a:r>
            <a:r>
              <a:rPr b="0" lang="ro-RO" sz="4100" spc="-1" strike="noStrike">
                <a:solidFill>
                  <a:srgbClr val="ffffff"/>
                </a:solidFill>
                <a:latin typeface="Arial"/>
              </a:rPr>
              <a:t> şi avarii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cauzate de calitatea barelor </a:t>
            </a:r>
            <a:r>
              <a:rPr b="0" lang="ro-RO" sz="41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 s</a:t>
            </a:r>
            <a:r>
              <a:rPr b="0" lang="ro-RO" sz="41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rmelor metalice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Câte ceva de acest subiec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iile aeriene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 transport a energiei electri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t confectionate din conductoare de cupru, aluminiu cu miez de otel. Conductoarele din aluminiu cu miez de otel sunt folosite in special in cazul tensiunilor inal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4114800" cy="329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Şi dezast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O furtună puternică a lăsat un orăşel fără curent electric, iar un cetăţean aflat în apropiere a suferit grave ars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57800" y="23241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oleibuz avariat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ctivitatea de transport în comun din un oraş a fost sistată pe o perioada de câteva ore din cauza unei avarii la liniile de troleibu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upa </a:t>
            </a: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exemplele prezentate de grupa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 a cauzelor care au determinat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vari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gasiti solutii de eliminare a defectelor consta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ercetările efectuate în urma  avariei produse, s-au constatat multe neregului printre care şi calitatea inferioară a conductoarelor folo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Miezul de oţel, care trebuia să fie din sârmă OL42, care este un oţel cu rezistenţa la rupere de 42daN/mm</a:t>
            </a:r>
            <a:r>
              <a:rPr b="0" lang="ro-RO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era din OL37, care este un oţel cu rezistenţa la rupere mai mic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Arial"/>
              </a:rPr>
              <a:t>Grupa 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-ti exemple de cladiri care au suferit din cauza produselor din sarm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şi bare de oţ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tilizate la structura de rezist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lanseu prabusit din caza calitatii sarmei utilizate la armatura de rezistent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2209680"/>
          <a:ext cx="4800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09680"/>
                    <a:ext cx="4800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uze identific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entru a face economie, firma de construcţii a achiziţionat sârmă şi bare de oţel de calitate inferioară, la care după accident s-a constat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 s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ma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</a:rPr>
              <a:t> de oţe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utilizata au fost identificate proprietati mecanice – rezistenta la intindere – sub limita admisa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Arial"/>
              </a:rPr>
              <a:t>Barele de oţel d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  <a:ea typeface="Arial"/>
              </a:rPr>
              <a:t>8mm STAS 654/2000 erau sub toleranta admisa d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  <a:ea typeface="Arial"/>
              </a:rPr>
              <a:t>0,1mm, având diametrul d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0" lang="ro-RO" sz="2500" spc="-1" strike="noStrike">
                <a:solidFill>
                  <a:srgbClr val="ffffff"/>
                </a:solidFill>
                <a:latin typeface="Arial"/>
                <a:ea typeface="Arial"/>
              </a:rPr>
              <a:t>7,63mm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derea sarcinii din carligul macaralei din cauza ruperii cablului din sarma utiliz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4038480" cy="28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04920" y="2286000"/>
          <a:ext cx="39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39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905120" y="2362320"/>
            <a:ext cx="838080" cy="761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uze identificat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a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 oţ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t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 confectionarea unui toron din cele 12 c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compuneau cablul de trac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ne a fost din s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a de calitate inferioara celei prev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te de standar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38680" y="3505320"/>
            <a:ext cx="285768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2895840" cy="227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upa 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exemplele prezentate de grupa 1 si a cauzelor care au determinat dezastrele, gasiti solutii de eliminare a defectelor consta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racteristici sarm</a:t>
            </a:r>
            <a:r>
              <a:rPr b="0" lang="ro-RO" sz="3500" spc="-1" strike="noStrike">
                <a:solidFill>
                  <a:srgbClr val="ffffff"/>
                </a:solidFill>
                <a:latin typeface="Arial"/>
              </a:rPr>
              <a:t>ă şi bare din oţel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Sârmele şi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le sau sarmele din otel utilizate la confectionarea armaturii metalice trebuie sa prezinte urmatoarele caracteristici tehnic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ozitia chimica a otelulu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zistenta la rupere la tractiun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743200" y="3200400"/>
          <a:ext cx="3429000" cy="928800"/>
        </p:xfrm>
        <a:graphic>
          <a:graphicData uri="http://schemas.openxmlformats.org/drawingml/2006/table">
            <a:tbl>
              <a:tblPr/>
              <a:tblGrid>
                <a:gridCol w="687240"/>
                <a:gridCol w="684360"/>
                <a:gridCol w="685800"/>
                <a:gridCol w="684360"/>
                <a:gridCol w="687240"/>
              </a:tblGrid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362320" y="4648320"/>
          <a:ext cx="4038480" cy="1349280"/>
        </p:xfrm>
        <a:graphic>
          <a:graphicData uri="http://schemas.openxmlformats.org/drawingml/2006/table">
            <a:tbl>
              <a:tblPr/>
              <a:tblGrid>
                <a:gridCol w="906480"/>
                <a:gridCol w="709560"/>
                <a:gridCol w="806400"/>
                <a:gridCol w="808200"/>
                <a:gridCol w="8078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rupa 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-ti exempl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incidente  cauzate de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alitatea inferioară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l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transport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istribu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 a energiei elect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11:08Z</dcterms:created>
  <dc:creator>ws22</dc:creator>
  <dc:description/>
  <dc:language>en-US</dc:language>
  <cp:lastModifiedBy>Mocanu</cp:lastModifiedBy>
  <dcterms:modified xsi:type="dcterms:W3CDTF">2009-12-13T19:26:29Z</dcterms:modified>
  <cp:revision>4</cp:revision>
  <dc:subject/>
  <dc:title>Ce stiu despre calitate si defecte</dc:title>
</cp:coreProperties>
</file>